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6C49-18C5-49FC-8EE5-7755222C4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1ED3-91E7-48AF-867B-EFF73F966D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A5A4-44AB-4E6F-9653-8037F14BEA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E64-7FAB-4D4C-9CAC-29690F8A13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C917-CF3A-46A2-ACB6-43483F3588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2F76-58DE-49C4-AB12-285EF76CB1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A27C-A020-4B71-A23F-DC37FE7E05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9A97-91CF-44E4-9F0D-4251F7FAC9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B01E-3B39-47A3-B672-E5652BF9A2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6FB-B347-4358-9306-511181F5E6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0B4-9ECE-40E4-AD14-44DADED2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4DF-6AAA-47DB-87E5-6EFA9B83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305F6-76CC-41A9-9158-DA64ADE4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CC30A-18DB-46C6-BCDF-86F543AA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C6A477-71EB-430A-A474-EC3C7AD0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98FD3-7002-4627-8E12-2C1DD3A6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CAF62F-9572-45C0-9770-FB0E832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A17B5-666C-4C7A-A62C-5DF1D11F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62889-5F1B-4FA6-B744-E05606C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7A4137-E458-4F99-893F-310C7671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48F51D-B6C0-4489-BE92-13E56716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EE3-F939-41D6-8706-366BA783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E13-7C1E-4495-8D8F-59CC9349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156E-80B1-4AD8-91AA-4C45A410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347B2-9BA9-4407-AB57-6298421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2EA95-EC5A-467E-8364-72DA56BA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895E5-4A05-45C1-BE7A-D15FED4F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B394C-4F30-4B52-AF6D-46889A3C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829D6-59FB-45A1-B341-47ABE9E2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A488F-F9F4-482D-B506-A0747DB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1BF-202B-41D3-AC4A-FA05AF35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BB6FF-3CF4-4E48-A977-69B7F362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7F4EC-393F-4E9D-B411-1FF2665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C7076-F2EA-48D3-A819-705430D7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0F9B-4E9C-42D3-8EFA-3D640D80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B4011-AE89-4FDA-A768-A202119B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31F9-0C58-428A-BD85-A2B088A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A4F6-9415-4215-8EB7-23678E1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D030-2B26-45D5-8587-3689FBC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540E-5A7B-4179-95C7-8303429C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3AF3-4725-4367-BA9B-F26B38E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891-56BD-4132-B710-4E1D67FB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AF0C-FF3E-41B4-9777-ED02721A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493F-856C-4F0A-B34B-6C58C42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3B05-F8EF-4DC4-8F79-B112688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1B0D-4AAF-4597-B971-C1A501E9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6B22-453D-434E-A36F-D85D5BCD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34CA-4442-4787-88C9-96FBC2F2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01E6-246E-4D76-9B55-D2F4F3D5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6A420-7F33-4AC8-8750-1DB11373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CC81E-1ABA-4BDF-815D-3C6A82B7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7F7BB-98DB-465A-8033-6931EAC1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7A7-CF58-415E-9E97-7DB8785A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5D268-361A-4E8B-8F43-853BA04D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748B1-4F1F-43BA-9013-9C112629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7EAE6-87ED-4109-BC4E-16008DBF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3A3C1-0372-4CC1-9A33-A9FB6CF6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34F6E-68D3-4259-A27F-2EA5DB6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4C23A-330C-499C-8709-6FFCFCA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BDB3B-D50A-4706-9121-71E03340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6B050-DF79-43CD-80E9-E4CA95D4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725C1-0E37-482E-B824-5F9BE07B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24D3-6C2C-4B62-9FA4-964DF94C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3FB-24C4-4FA2-A923-5901DEF6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3B1CB-C7B3-4D2A-8056-0A5FB9E6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09BB-D6DC-4888-986B-A3EF4113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11DD-1393-4F32-9110-E29EB98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6F69-BE85-48AB-A958-FD379B83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4A638-3E3E-49A8-AED8-ECC00FF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FB59-A535-4C43-8E0B-DB9C075E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2365-9868-4865-960E-2E19D4ED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D026C-C860-41A2-9400-62A854E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ED27-1587-453E-ACE0-A60C5B39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604D-3DF5-4AB8-B822-F684436F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9FA-8168-409C-8BB8-8DDDAA1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919C-FA84-492D-B747-EE18EC4C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7C167-4EFF-48E5-BB01-90656CF0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EFFE3-BECF-49B0-9DC1-B6318DC8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C1895-D5B9-4825-BD22-36968289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EF129-0106-43A5-B59C-1D7E8B46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8B2F9-D340-48AE-AEA3-EB9F49D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A2173-81F7-420C-AFD5-481BBF13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1E3D2-973D-46BF-A1D6-8B1AB88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DDFB-68F4-4100-96E0-AFAF54E1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12AC-87FA-4A83-AA09-150F5307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5D3-7B9D-47AF-9F49-0018DA5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2570F-9EEC-446D-A1E9-D14BA7D3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D00F4-1E7A-4CED-8AA3-3917D586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3F3F-71BB-4DE8-B0EC-A98DBC87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9A3AB-FD28-407B-90C0-6D0B8E38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B2B33-ED51-43BE-8CE6-481C1F7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324BA-83D2-42B2-829E-E7CA1EFA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B498-ECA5-4093-B9F3-0A5E8A12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2746-9175-4067-BD99-F0734A9F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AB88-3813-4C90-BBB3-736816D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EF33D-CE13-44B7-B825-D320B35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1DC-575D-418D-9A00-56E7C83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AF69-8A3D-4C3E-9DFA-5F97139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BD764-18EC-44DD-A477-34C55F1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B762-91FD-4873-BFD4-99743A50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2AA0-B09C-49F3-B021-1427EF16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82FF-757C-4B80-9D28-A225E9C9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16D954-286F-406C-96B3-4D329A5B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95C360-64FB-470A-855D-57B891CE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59B7F-8572-4780-BE57-1524F08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CB984C-BD55-4574-895D-4C73CBE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D05AC-04FE-48C5-BEB6-0FA9663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298-B60F-4517-9C87-28E9AFA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76BB2A-8F03-46B9-99DC-A2C51118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AB56E-EDBA-4673-9C4F-03F0645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A80C0-D8C4-4A2B-BC05-0430F91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3BF5A-34B1-4257-8781-9629B9A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41640A-E41C-4E97-82C1-1F6551A2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9D018-8B51-4068-AAA1-468AAE12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45AEE-8A1A-4779-B1C9-7628CFF8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93C53-54CF-4ED4-81A6-14F58E6C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CFBE5-143A-4A1C-9C81-F70EA12F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B9DFF-4C56-415A-BAB7-CA597A25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4A38-FBE1-485F-8659-68E57645ABB2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350F-1267-409C-BD4A-9819BFA39322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42F7-7247-4CAA-BA23-2055049E9C2A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940A-CD2F-41A3-98B2-EF36E3A2FB6C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6AA-1551-4C61-BFB1-F1C3944C1EDA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93E-095F-4396-9F3B-4422D9C8BBE5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FBCF-C197-4E43-A722-E42581E51F16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DE1-835A-4424-88F7-3E060623A1FB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525-7923-4BFA-9C3B-75899B261C76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aRlFsYmkeY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-6480" y="2120760"/>
            <a:ext cx="8083800" cy="1494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339360" y="4684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4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tenance of stable internal condi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emperature, levels of water,  nutrient uptak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9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homeostasis and give two examp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nline book Scavenger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OGIN:  STUD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WORD:  BLANK (don’t type anything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morrow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iscuss the domains and kingdoms of lif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9-10 ATB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wo biological molecules w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talked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bout in class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hange of plans…we’re going to the writing lab to finish the scavenger hunt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Rockwell"/>
              </a:rPr>
              <a:t>IMPORTANT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: Add the following questions to your sheet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Rockwell"/>
              </a:rPr>
              <a:t>9.  In chapter 1:  Activities and Quizzes --Complete the “Biology and Ecology” Concept Map – show me when your done (mints for the least wrong)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Rockwell"/>
              </a:rPr>
              <a:t>10.  On a separate piece of paper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Rockwell"/>
              </a:rPr>
              <a:t>Go to Fieldbio.wikispaces.com.   Under “Biology” and then under “Biology Notes and Assignments” open the PowerPoint for this chapter.  Write 5 review questions for the class.</a:t>
            </a:r>
            <a:endParaRPr b="0" lang="en-US" sz="21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5 minutes – work on Online Book Scav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st of class – discuss the remaining characteristics of life and the domains of life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3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level of organization in living thing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nish discussing the 7 characteristics of lif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iscuss the domains and kingdoms of lif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gin the review sheet for the test (due Wed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ST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Wednesday!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morrow – go over questions on the review sheet, possibly re-plant our bea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28600" y="42660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ergy Use or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cesses that take in and transform energy from the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OWTH and DEVELOP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grows and then changes (mature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ing of genes to offspr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NA from two organis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ism produces exact copy of itself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e Changes over ti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sms evolve because of adaptations which made them more successful than othe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daptation –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rait that improves an organisms chance of survival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http://www.youtube.com/watch?v=faRlFsYmke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Homer Evolution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609480" y="3738600"/>
            <a:ext cx="85345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Arche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Eukarya -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3581280" y="2587680"/>
            <a:ext cx="556272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3809880" y="1143000"/>
            <a:ext cx="457200" cy="609480"/>
            <a:chOff x="3809880" y="1143000"/>
            <a:chExt cx="457200" cy="609480"/>
          </a:xfrm>
        </p:grpSpPr>
        <p:sp>
          <p:nvSpPr>
            <p:cNvPr id="453" name=""/>
            <p:cNvSpPr/>
            <p:nvPr/>
          </p:nvSpPr>
          <p:spPr>
            <a:xfrm>
              <a:off x="3886200" y="1143000"/>
              <a:ext cx="38088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809880" y="1371600"/>
              <a:ext cx="4572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251240" y="117936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ucleus, unicel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32960" y="19447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, mostly multicellua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2"/>
          <a:stretch/>
        </p:blipFill>
        <p:spPr>
          <a:xfrm>
            <a:off x="450720" y="-5335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763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cteri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che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ists* –  relative simple organization (algae, amoeba, euglena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nt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ungi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imal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2743200" y="2389320"/>
            <a:ext cx="6400800" cy="44686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33520" y="4191120"/>
            <a:ext cx="17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Eukaryotic (usually multicellu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much…just the stud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if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how does it affect u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ffects our health, foods, medicine, the environment, how we interact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4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to your group from Fri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out your online book scavenger hunt and get the laptop you signed ou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The End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osphere – planet that sustains lif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system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ties of living organisms and their non-living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otic = liv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biotic = non-l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olu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nging of a population over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tural Selec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are beneficial are more likely to be passed to offspring - “survival of the fittest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ptation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improve organisms ability to survive and reprodu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tnes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organisms contribution to genes to the next gener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" y="4900680"/>
            <a:ext cx="3352680" cy="19573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334120" y="3895560"/>
            <a:ext cx="3809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28600" y="12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ey mice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better camouflage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get eaten less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pass on their grey genes to the next genera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ich means a higher fitnes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2890800"/>
            <a:ext cx="70390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521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2408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952880" y="4379760"/>
            <a:ext cx="4191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eate your own hypothesis explaining how giraffes evolved long necks, assuming their ancestors were shorter.  What evolutionary pressure caused the longer necks? (Why did it happen?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iraffe fight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http://www.youtube.com/watch?v=C7HCIGFdBt8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0198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39909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6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natural selection lead to evolu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-6480" y="-103320"/>
            <a:ext cx="8107560" cy="1865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endr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otan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Zo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c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tom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yob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nith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atom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hys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chthy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rpet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pidem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8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you studying if you stud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logy –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otany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Zoology -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What are  the characteristics of life?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 groups with someone around you and try to brain storm as many characteristics of life as you c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7 Characteristics of  Lif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 (responsivenes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have a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GROW and DEVELO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REPRODU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EVOL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2724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2"/>
          <a:stretch/>
        </p:blipFill>
        <p:spPr>
          <a:xfrm>
            <a:off x="380880" y="0"/>
            <a:ext cx="7828200" cy="10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522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 basic unit of life is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04920" y="1447920"/>
            <a:ext cx="2819160" cy="2508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952880" y="4710240"/>
            <a:ext cx="3581640" cy="2147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380880" y="4116240"/>
            <a:ext cx="3886200" cy="2741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334120" y="1371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Characteristics of Life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zation of living thing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 Syst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Tissu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ell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el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Biological Molecu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Ato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some biological molecule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2514600"/>
            <a:ext cx="320040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2971800"/>
            <a:ext cx="24386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24480" y="2514600"/>
            <a:ext cx="19814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2971800"/>
            <a:ext cx="17524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48520" y="2971800"/>
            <a:ext cx="21333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429000"/>
            <a:ext cx="23619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3429000"/>
            <a:ext cx="1524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14600" y="2971800"/>
            <a:ext cx="1523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44:28Z</dcterms:created>
  <dc:creator>David</dc:creator>
  <dc:description/>
  <dc:language>en-US</dc:language>
  <cp:lastModifiedBy>SASD</cp:lastModifiedBy>
  <dcterms:modified xsi:type="dcterms:W3CDTF">2010-09-13T13:54:27Z</dcterms:modified>
  <cp:revision>66</cp:revision>
  <dc:subject/>
  <dc:title>The World of Biology</dc:title>
</cp:coreProperties>
</file>